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F2FB-51FA-493E-BDDE-360A39D6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0CCE-A79B-4A00-AE70-FD444D74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054D-489D-418C-A35D-F65F4B4F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50DB-7263-4E1F-9BE9-F60AE775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DDC9-AA90-42D9-B323-B3E78A33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44DB-1239-4143-B413-0586D3E8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7C28-8E38-430B-8704-3363C219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5AD0-8BFF-4F5A-8DD4-CB1037CF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ED21-012F-46B6-8068-BCFDCCA2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E64E-BE29-4CE8-B0B8-9E84EF01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226B-6FAE-4118-B580-EE2FF3DF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9825-F731-4910-84A9-976DACF3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8E85-90E0-46C1-95DE-9CEDD1F03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20" y="57240"/>
          <a:ext cx="6657840" cy="874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7240"/>
                    <a:ext cx="6657840" cy="874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0"/>
          <a:ext cx="6858000" cy="91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295080" y="8381880"/>
            <a:ext cx="1501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Robert I. Fich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4280" y="868680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4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0" y="0"/>
          <a:ext cx="6858000" cy="91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3300120" y="8385120"/>
            <a:ext cx="1357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John F. Wr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4280" y="868680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5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6858000" cy="91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213000" y="8385120"/>
            <a:ext cx="1600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Golden Diam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4280" y="868680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6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0"/>
          <a:ext cx="6858000" cy="91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212640" y="8385120"/>
            <a:ext cx="1501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Robert I. Fich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4280" y="868680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7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220560" y="8385120"/>
            <a:ext cx="1456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Rick Cartwr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4280" y="868680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8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0"/>
          <a:ext cx="6858000" cy="91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727200" y="6556320"/>
            <a:ext cx="969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Jerry Ti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65680" y="6556320"/>
            <a:ext cx="138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Gary C. Gera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82000" y="7238880"/>
            <a:ext cx="148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Aaron E. Wil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01040" y="7927920"/>
            <a:ext cx="1380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Handwriting"/>
              </a:rPr>
              <a:t>Jason Willi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4280" y="868680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9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0"/>
          <a:ext cx="6858000" cy="91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790560" y="6553080"/>
            <a:ext cx="1621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Catherine Gar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6553080"/>
            <a:ext cx="1539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Robert L. Eich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06040" y="7315200"/>
            <a:ext cx="148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Aaron E. Wil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1040" y="7927920"/>
            <a:ext cx="1380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Handwriting"/>
              </a:rPr>
              <a:t>Jason Willi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4280" y="868680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20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6440" y="8928000"/>
            <a:ext cx="625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 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-201600" y="0"/>
          <a:ext cx="7059600" cy="913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1600" y="0"/>
                    <a:ext cx="7059600" cy="913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757040" y="5114880"/>
            <a:ext cx="392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08400" y="6469200"/>
            <a:ext cx="736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Hans Volk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15560" y="8167680"/>
            <a:ext cx="1120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Wendall Purch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41880" y="8928000"/>
            <a:ext cx="291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9920" y="891540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0" y="0"/>
          <a:ext cx="6858000" cy="91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793440" y="6553080"/>
            <a:ext cx="1522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William John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17880" y="6553080"/>
            <a:ext cx="1522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William John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06040" y="7315200"/>
            <a:ext cx="148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Aaron E. Wil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01040" y="7927920"/>
            <a:ext cx="1380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Handwriting"/>
              </a:rPr>
              <a:t>Jason Willi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4280" y="868680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2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6440" y="8928000"/>
            <a:ext cx="625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 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0"/>
          <a:ext cx="6858000" cy="913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3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4757040" y="5114880"/>
            <a:ext cx="392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90400" y="6469200"/>
            <a:ext cx="7012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P. Bough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15560" y="8167680"/>
            <a:ext cx="1120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Wendall Purch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41880" y="8924760"/>
            <a:ext cx="291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891540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47680" y="76320"/>
          <a:ext cx="6305400" cy="847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76320"/>
                    <a:ext cx="6305400" cy="847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0" y="0"/>
          <a:ext cx="6858000" cy="91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2760120" y="6967440"/>
            <a:ext cx="1463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ush Script MT"/>
              </a:rPr>
              <a:t>Wendell Pur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4280" y="877572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24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6440" y="8928000"/>
            <a:ext cx="625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 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6480"/>
          <a:ext cx="6858000" cy="913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80"/>
                    <a:ext cx="6858000" cy="913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4757040" y="5114880"/>
            <a:ext cx="392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1720" y="6469200"/>
            <a:ext cx="802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Hans Kod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15560" y="8167680"/>
            <a:ext cx="1120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Wendall Purch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41880" y="8924760"/>
            <a:ext cx="291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891540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6440" y="8928000"/>
            <a:ext cx="625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 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0"/>
          <a:ext cx="6858000" cy="913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3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4757040" y="5114880"/>
            <a:ext cx="392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39720" y="6469200"/>
            <a:ext cx="856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Jane T. Smi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15560" y="8167680"/>
            <a:ext cx="1120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Wendall Purch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41880" y="8924760"/>
            <a:ext cx="291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891540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0" y="0"/>
          <a:ext cx="6858000" cy="91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94800" y="6553080"/>
            <a:ext cx="1123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M.B. Moo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19240" y="6553080"/>
            <a:ext cx="1123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M.B. Moo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77880" y="7318440"/>
            <a:ext cx="1088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R.L.Eich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3680" y="7848720"/>
            <a:ext cx="888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ush Script MT"/>
              </a:rPr>
              <a:t>O.R. 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4280" y="868680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27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19240" y="47520"/>
          <a:ext cx="6419520" cy="903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47520"/>
                    <a:ext cx="6419520" cy="903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6858000" cy="91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4519080" y="7358040"/>
            <a:ext cx="1323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 E.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29240" y="6553080"/>
            <a:ext cx="1315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illiam John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2360" y="6553080"/>
            <a:ext cx="1315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illiam John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4280" y="868680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8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163960" y="6519960"/>
            <a:ext cx="9727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.B. Mo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07160" y="6477120"/>
            <a:ext cx="9727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.B. Mo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89920" y="7162920"/>
            <a:ext cx="9802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.L. Eich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4280" y="868680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3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224280" y="868680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0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44400" y="6566040"/>
            <a:ext cx="9392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.L. Eic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63960" y="6519960"/>
            <a:ext cx="9727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.B. Mo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20520" y="708660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0"/>
          <a:ext cx="6858000" cy="91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795600" y="6556320"/>
            <a:ext cx="1621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Catherine Gar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4760" y="6553080"/>
            <a:ext cx="1539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Robert L. Eich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06040" y="7238880"/>
            <a:ext cx="148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Aaron E. Wil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4280" y="868680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0"/>
          <a:ext cx="6858000" cy="91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727200" y="6553080"/>
            <a:ext cx="969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Jerry Ti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65680" y="6553080"/>
            <a:ext cx="138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Gary C. Gera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82000" y="7315200"/>
            <a:ext cx="148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Aaron E. Wil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4280" y="868680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0"/>
          <a:ext cx="6858000" cy="91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801360" y="6553080"/>
            <a:ext cx="1746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Ronald M. John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72520" y="6553080"/>
            <a:ext cx="1518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Gale B. Rod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06040" y="7162920"/>
            <a:ext cx="148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Aaron E. Wil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4280" y="868680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3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7T21:10:39Z</dcterms:created>
  <dc:creator>Joseph Pecorella</dc:creator>
  <dc:description/>
  <dc:language>en-US</dc:language>
  <cp:lastModifiedBy>Administrator</cp:lastModifiedBy>
  <cp:lastPrinted>2000-01-25T21:58:24Z</cp:lastPrinted>
  <dcterms:modified xsi:type="dcterms:W3CDTF">2005-05-02T20:01:40Z</dcterms:modified>
  <cp:revision>33</cp:revision>
  <dc:subject/>
  <dc:title>No Slide Title</dc:title>
</cp:coreProperties>
</file>